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F78-E58F-428E-849B-D952A230E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B794-0051-4225-AB67-2AC6A2A88D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B1F3-43E4-445F-9FB4-3A44660186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425-01A8-4980-9A05-E9DC7435D5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B8F-3AF5-4186-9FE7-3E39F4BBB1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F221-4CD6-4A65-9716-D976BDF824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4A1A-B3FB-4055-8198-E2E83C8D4C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8E32-1E29-4565-B3FB-309566E080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BF7-72EE-4172-977D-355565EB07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284-5A1E-4E97-8893-C7137920C4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EB2-9B9B-4138-9E48-4059906C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834-1CA0-4CC2-8244-E6483B4A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FCF50E-1FA2-4C4C-8F9A-BF5CCB5B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44AC6-EBB1-4744-ABD3-F4C9D25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E63C5-DE04-48C9-ACBB-6191957B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B3EDC-0592-490C-8EED-1ACAC17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B0954-1A2B-4003-B5DE-F52DEB96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1397D-11E7-41CA-9FCF-7E4426E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7B7C8-54A3-4A16-A354-8D96BC5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4E990-5A62-46B5-B27A-526CF982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86367-EED5-48AB-A56C-F743355A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1B1-9742-4983-BE92-FCE488CC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255-FFB4-41C3-9C30-E3A343FF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8EA63-066E-4381-BDCB-B352FAA4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EC473-BF0A-4E7C-9950-2BE5CCB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0BD6-7F79-4882-BDF0-7D47A2C8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16423-B71D-43EC-86C6-A78FA74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4ADB-EAFB-4F72-A696-A18EBEE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4C995-7A51-4EA2-A97D-8B80F1F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5ED66-D2AA-4F5C-8EC6-278C6FD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B2A-DF5A-4245-AABF-8FC1EA8E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20C22-541A-44ED-8F30-573BC8E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05FF9-9C58-4DA6-ADFF-E1809DB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D58C8-D311-4BD2-9B8F-6AA42124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A3CD8-21EA-411B-A7DD-E8065FC2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55DFA-D357-4E2D-A494-4F69B664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9DA5-A45C-41B5-9C99-9AD804C3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41E5-5DA3-4EEC-A64F-D91752CF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84E6-F191-402A-AD01-7CF7EC1B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3950-AED5-4A61-A161-0BB971CA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DCF0-2F5A-47C4-93D9-54E48520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C4B-7D97-48D8-8CDF-7C7156C4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02D5-EA07-4631-B374-77466CC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26B6-A14B-4AA2-8B35-BB64AB6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04BF-DB7F-4BC2-A6AB-40016C1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3A98-D3EE-4F72-838E-47B4CC1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9C2A-0CA0-481F-B6E6-52ECF829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3871-F657-4ACB-BD6E-E36AA46B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0627-E195-4CE3-8B99-175D1D33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C0D40-189B-426B-B19C-D9DFDCFF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4EA1E-7E2D-47A3-8C6B-8FD8E4D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B8827-6A36-4DE1-A9BC-8DD9B06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811-D4B9-47BE-B5D0-72C216E0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5A0E3-3E77-4E0F-BF44-2447E86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F0D07-0090-44BA-B623-736B0A6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E49C2-68E9-4D56-9733-71375822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959FD-590C-4C07-836F-E9C0F49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48FF8-1CA3-437B-B348-E61EB28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27A96-BA6D-4B37-9A70-E3DFCF9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D5385-A531-4EFB-9108-FD19ED4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A2E05-3A90-4A28-8403-8D4A2E90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58BCE-2159-4CDB-8F97-56F4980E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5D34-8F25-4414-A0B8-62B57C2B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EE6-AAF4-4F04-9B90-DFB89A4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2346-2C73-496F-AB9E-979B529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7097-051E-4801-9C5D-8AC13BF0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604E5-B9E0-478D-9AF5-A401ACE9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3DC3D-7AD3-435E-8479-62BA5B57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EDF6-31EF-49F1-9360-EDA5816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6733-93B6-42F1-B84E-8610CA1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BE159-31EB-4401-8842-9639B9E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1E37A-515B-4A98-AD5E-0E31388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B9C1-3372-487C-ACE7-CC0C0C37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7866-2332-4E37-B138-D1A758F3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783-D28F-48FE-9907-8E0B4E5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67D8-6669-420D-86CC-7292DFCD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F080-BF97-4955-A233-142BB0F7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B1AE-B053-4543-9249-717D1EC8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9E6B-0758-481F-9A1E-A29B905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66F9-3236-43F7-800C-0053D0E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F03B-4421-4260-A701-F2101015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E6E5D-CBC9-402E-A3B1-5951DF5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604F-5F93-4FF5-881B-BB0BF69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9569-0D0A-43C3-A606-41F02BB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DA95-CB2C-4C41-909F-6FBEA29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B7C-4B01-4987-AF81-9D3D6EF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4140-9B35-4736-9B73-C0948BC5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F9DE-BA4F-46E6-9BAA-FD10F02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DBF4-6E56-4BA7-AD02-C615E193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163DF-2BBA-4F37-B2BE-9A3055A3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AB0D-869A-4550-9CED-EB9CBA3F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295A7-6729-45F2-B839-9A7AE2A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4B1E-FB02-45A4-9138-4E8D6E3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9D99-2E29-43A8-BA9C-1580496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1251-D358-48A6-99FD-A220C5E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4DEBC-6B13-4972-A026-A19D403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DC0-A8BA-4A0E-B3A1-77FBC5F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E7C0-EEDC-4531-9341-80CCB69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2AC13-3E73-4621-BD5E-402B253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9B32-F70F-4173-B6D1-85DD10FB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40E9-DAE5-4B5A-9C4A-829C428F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7562-E5A5-4659-8C7E-407E711D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2B9A5-0C60-45AF-931A-07AD91FC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0A6E82-3BAF-444F-BFEF-5A5A8962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E6353-E5F1-4574-923D-9136F42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82192-A1D1-4F4E-B2BC-B74A6E4E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2221A-A626-4261-A726-0824ECD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F0B-7366-4FC5-B3BE-2ED417B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F690B7-CBDF-4886-B279-F322DD58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0DEAC-72C2-4C9D-AFAD-A93AC5C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AEA13-F21F-4E68-BE48-5DA6BC6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3FECC-BFBA-4E7E-96C3-44E5FF79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7E7A2-C557-40E2-B846-12FB908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13BC6-0D71-4C42-AB24-3041609D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2406D-6893-40C0-B6D9-EA607E34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551D4C-AAFC-4C34-8339-F4D752EB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C881F-FA9D-4F02-A94E-7D91FFA2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C8000A-B2EC-4061-BCB4-9F7C5229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5EC1-4D87-4C1C-8EA6-BDF23FD1592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314B-2FCD-42A5-9AEB-F04DC1DD4EA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D5B8-1AE8-4E97-A465-D8FAD943ACF9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7074-01EC-4B8E-9B70-BD979F10DE19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F47D-2B33-4FF4-B317-CF4A8F9035DE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BD0C-25F9-4A7C-AABF-407529061BF9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801-A860-4E74-BFCC-A7B12D91417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0031-2561-4CD1-92DF-172D96EBF0D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E81-64C4-4DF4-9ADF-99A4BE8C91E0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aRlFsYmkeY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-6480" y="2120760"/>
            <a:ext cx="8083800" cy="1494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339360" y="4684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4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tenance of stable internal condi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emperature, levels of water,  nutrient uptak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9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homeostasis and give two examp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nline book Scavenger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OGIN:  STUD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WORD:  BLANK (don’t type anything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morrow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iscuss the domains and kingdoms of lif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9-10 ATB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wo biological molecules w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talked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bout in class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hange of plans…we’re going to the writing lab to finish the scavenger hunt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Rockwell"/>
              </a:rPr>
              <a:t>IMPORTANT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: Add the following questions to your sheet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Rockwell"/>
              </a:rPr>
              <a:t>9.  In chapter 1:  Activities and Quizzes --Complete the “Biology and Ecology” Concept Map – show me when your done (mints for the least wrong)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Rockwell"/>
              </a:rPr>
              <a:t>10.  On a separate piece of paper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Rockwell"/>
              </a:rPr>
              <a:t>Go to Fieldbio.wikispaces.com.   Under “Biology” and then under “Biology Notes and Assignments” open the PowerPoint for this chapter.  Write 5 review questions for the class.</a:t>
            </a:r>
            <a:endParaRPr b="0" lang="en-US" sz="21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5 minutes – work on Online Book Scav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st of class – discuss the remaining characteristics of life and the domains of life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3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level of organization in living thing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nish discussing the 7 characteristics of lif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iscuss the domains and kingdoms of lif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gin the review sheet for the test (due Wed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ST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Wednesda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morrow – go over questions on the review sheet, possibly re-plant our bea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28600" y="42660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ergy Use or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cesses that take in and transform energy from the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OWTH and DEVELOP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grows and then changes (mature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ing of genes to offspr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NA from two organis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ism produces exact copy of itself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e Changes over ti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sms evolve because of adaptations which made them more successful than oth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aptation –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rait that improves an organisms chance of survival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www.youtube.com/watch?v=faRlFsYmke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Homer Evolution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609480" y="3738600"/>
            <a:ext cx="8534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Arche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Eukarya -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3581280" y="2587680"/>
            <a:ext cx="556272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3809880" y="1143000"/>
            <a:ext cx="457200" cy="609480"/>
            <a:chOff x="3809880" y="1143000"/>
            <a:chExt cx="457200" cy="609480"/>
          </a:xfrm>
        </p:grpSpPr>
        <p:sp>
          <p:nvSpPr>
            <p:cNvPr id="453" name=""/>
            <p:cNvSpPr/>
            <p:nvPr/>
          </p:nvSpPr>
          <p:spPr>
            <a:xfrm>
              <a:off x="3886200" y="1143000"/>
              <a:ext cx="38088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809880" y="1371600"/>
              <a:ext cx="4572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251240" y="117936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ucleus, unicel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32960" y="19447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, mostly multicellua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2"/>
          <a:stretch/>
        </p:blipFill>
        <p:spPr>
          <a:xfrm>
            <a:off x="450720" y="-5335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763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cteri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che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ists* –  relative simple organization (algae, amoeba, euglena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nt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gi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imal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2743200" y="2389320"/>
            <a:ext cx="6400800" cy="44686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33520" y="4191120"/>
            <a:ext cx="17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Eukaryotic (usually multicellu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much…just the stud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if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how does it affect u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ffects our health, foods, medicine, the environment, how we interact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4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to your group from Fri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out your online book scavenger hunt and get the laptop you signed ou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The End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osphere – planet that sustains lif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system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ties of living organisms and their non-living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otic = liv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biotic = non-l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olu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nging of a population over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tural Selec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are beneficial are more likely to be passed to offspring - “survival of the fittest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ptation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improve organisms ability to survive and reprodu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tnes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organisms contribution to genes to the next gener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" y="490068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334120" y="3895560"/>
            <a:ext cx="3809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28600" y="12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ey mice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better camouflage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get eaten less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pass on their grey genes to the next genera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ich means a higher fitnes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2890800"/>
            <a:ext cx="70390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2408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952880" y="4379760"/>
            <a:ext cx="4191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eate your own hypothesis explaining how giraffes evolved long necks, assuming their ancestors were shorter.  What evolutionary pressure caused the longer necks? (Why did it happen?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raffe fight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http://www.youtube.com/watch?v=C7HCIGFdBt8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0198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3990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6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natural selection lead to evolu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-6480" y="-103320"/>
            <a:ext cx="8107560" cy="1865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endr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otan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Zo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c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tom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yob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nith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atom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hys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chthy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rpet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pidem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8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you studying if you stud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logy –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otany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Zoology -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What are  the characteristics of life?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 groups with someone around you and try to brain storm as many characteristics of life as you c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7 Characteristics of  Lif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 (responsivenes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have a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GROW and DEVELO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REPRODU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EVOL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2724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2"/>
          <a:stretch/>
        </p:blipFill>
        <p:spPr>
          <a:xfrm>
            <a:off x="380880" y="0"/>
            <a:ext cx="7828200" cy="10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522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 basic unit of life is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2819160" cy="2508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952880" y="4710240"/>
            <a:ext cx="3581640" cy="2147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380880" y="4116240"/>
            <a:ext cx="3886200" cy="2741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334120" y="1371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Characteristics of Life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zation of living thing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 Syst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Tiss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ell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el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Biological Molecu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Ato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some biological molecule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2514600"/>
            <a:ext cx="320040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971800"/>
            <a:ext cx="24386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2514600"/>
            <a:ext cx="19814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2971800"/>
            <a:ext cx="17524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2971800"/>
            <a:ext cx="21333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429000"/>
            <a:ext cx="23619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3429000"/>
            <a:ext cx="1524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2971800"/>
            <a:ext cx="1523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44:28Z</dcterms:created>
  <dc:creator>David</dc:creator>
  <dc:description/>
  <dc:language>en-US</dc:language>
  <cp:lastModifiedBy>SASD</cp:lastModifiedBy>
  <dcterms:modified xsi:type="dcterms:W3CDTF">2010-09-13T13:54:27Z</dcterms:modified>
  <cp:revision>66</cp:revision>
  <dc:subject/>
  <dc:title>The World of Biology</dc:title>
</cp:coreProperties>
</file>